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y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y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4FBCD-DE47-4CFB-9778-B91F1A58FA0B}" type="slidenum">
              <a:rPr b="0" lang="cy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y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9B88B-5187-4430-9A38-EED6EEC4B3A2}" type="slidenum">
              <a:rPr b="0" lang="cy-GB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366A-B8EA-436F-B59D-26E343EA2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FF78-319D-4DF3-ACE1-03E297957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F282-DDC0-4A1F-AA97-32A130400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C26A-13AD-49FE-B884-7D6088FCB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128C8-E13F-43E7-AEBC-1D78B275D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6FD50-99FB-4C55-AC78-CEEBE84DE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7877C-047A-4D26-BED3-783C9706D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1D52C-FF1E-4E5A-ABDE-1BA333496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F7F01-B3AC-46E3-9635-A28F34180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90826-AC2C-48CE-A971-B10F1D197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F8C64-D5D2-4252-981F-1ECB34A2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53F2-F841-4D8C-929D-3104C8BF4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DC1A0-DF2D-4CB2-ABDC-64E089A5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D0C8E-FF92-4BEF-82FB-ED75292B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2CE7B-99A7-420E-91DD-AC5B9A75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12786-F07E-47D3-8042-17E5E1FAE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CDE41-001D-4F95-A30B-CB7811613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5EA7-75F1-48EE-805C-317500562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F3DC-ADBB-4374-A172-26575F132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C8F8-7851-4C39-8229-65227B279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724F-8E48-48F0-97D7-B612DCDF3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6154-E31B-40FB-A5BC-410233D8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FEF7-5844-46DD-A42A-331E2D94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3326-BA3A-4706-8FFB-6C438139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Group 16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Rectangle 17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Rectangle 18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Group 22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Rectangle 20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Rectangle 21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B89FB-2E37-4745-80C7-214503D6FB3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4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5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7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8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9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10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11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2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3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Rectangle 14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5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9EBDC-08B7-4D7B-A334-0FAC316368A3}" type="slidenum"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8f8f8"/>
                </a:solidFill>
                <a:latin typeface="Tahoma"/>
              </a:rPr>
              <a:t>Ymgyrch</a:t>
            </a:r>
            <a:r>
              <a:rPr b="0" lang="cy-GB" sz="4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n-GB" sz="4000" spc="-1" strike="noStrike">
                <a:solidFill>
                  <a:srgbClr val="f8f8f8"/>
                </a:solidFill>
                <a:latin typeface="Tahoma"/>
              </a:rPr>
              <a:t>Farchnat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y-GB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Footer Placeholder 1"/>
          <p:cNvSpPr/>
          <p:nvPr/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U 1.1.8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Ymgyrch Farchnat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sv-SE" sz="3200" spc="-1" strike="noStrike">
                <a:solidFill>
                  <a:srgbClr val="f8f8f8"/>
                </a:solidFill>
                <a:latin typeface="Tahoma"/>
              </a:rPr>
              <a:t>Gofynnwyd i chi gynhyrchu ymgyrch farchnata ar gyfer ’Esgid Chwaraeon / Treinyrs’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8f8f8"/>
                </a:solidFill>
                <a:latin typeface="Tahoma"/>
              </a:rPr>
              <a:t>Meddyliwch am ddyluniad ar gyfer eich esgid chwaraeon / treinyrs newydd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8f8f8"/>
                </a:solidFill>
                <a:latin typeface="Tahoma"/>
              </a:rPr>
              <a:t>Cynulleidfa darged?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8f8f8"/>
                </a:solidFill>
                <a:latin typeface="Tahoma"/>
              </a:rPr>
              <a:t>Pa enw fyddwch yn ei roi i’r esgid?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8f8f8"/>
                </a:solidFill>
                <a:latin typeface="Tahoma"/>
              </a:rPr>
              <a:t>Sut y byddwch yn ei becynnu?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Ymgyrch Farchnat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8f8f8"/>
                </a:solidFill>
                <a:latin typeface="Tahoma"/>
              </a:rPr>
              <a:t>Meddyliwch am slogan ar gyfer eich cynnyrch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8f8f8"/>
                </a:solidFill>
                <a:latin typeface="Tahoma"/>
              </a:rPr>
              <a:t>Meddyliwch am strategaeth ’cymysgedd farchnata’ fanwl dros gyfnod o chwe mis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8f8f8"/>
                </a:solidFill>
                <a:latin typeface="Tahoma"/>
              </a:rPr>
              <a:t>Dangoswch y cylch bywyd ar gyfer eich cynnyrch (chwe mis)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8f8f8"/>
                </a:solidFill>
                <a:latin typeface="Tahoma"/>
              </a:rPr>
              <a:t>Lluniwch ymgyrch hyrwyddo fanwl ar gyfer eich cynnyrch – rhowch resymau, eglurwch eich gweithredu a rhowch gyfiawnhad dros bob un o’ch penderfyniadau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9T10:00:53Z</dcterms:created>
  <dc:creator>Castell Alun HS</dc:creator>
  <dc:description/>
  <dc:language>en-US</dc:language>
  <cp:lastModifiedBy>TimData</cp:lastModifiedBy>
  <dcterms:modified xsi:type="dcterms:W3CDTF">2015-05-06T18:18:07Z</dcterms:modified>
  <cp:revision>3</cp:revision>
  <dc:subject/>
  <dc:title>Marketing Campaign</dc:title>
</cp:coreProperties>
</file>